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D8D-59C1-4E54-AA55-F2088D16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268-D413-475D-AD79-6FC19A70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162-D989-4182-9A06-951586BC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313-F829-4E98-BB08-97822855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CEA-56F9-4566-B150-AD6AEDE3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7DF-DDD9-44CA-AFA4-F9ABAD34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4CD-B557-46FB-8BD8-C9470AF3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9A2-674E-4B96-8A3D-CC40A53E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9F8-A586-4223-8EE0-F1A1B5BD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547-7096-4389-8A87-0A2FE152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143-1673-4108-ABFF-0617A344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AF7-D87C-4B5F-A7CA-473EE486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FCFF-58C7-4B60-8896-15589E6D0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urlz MT"/>
              </a:rPr>
              <a:t>La Ropa De Tempor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857840" cy="340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66880" y="54100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By Penny Kournio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2381040" cy="14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El Invi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2438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la lleva un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or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la bufan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72200" y="3733920"/>
            <a:ext cx="1924200" cy="2371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46483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lleva un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u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ro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114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 </a:t>
            </a: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El Oto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852560"/>
            <a:ext cx="2438640" cy="1500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nza lleva l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lu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 anorilla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641600" cy="21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66680" y="457200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a lleva los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vesti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zapa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ddana lleva los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udad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lo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grese. Adril lleva l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lo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los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je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2063520" cy="271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33720" y="838080"/>
            <a:ext cx="487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La Primav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133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das y Katia lleva los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pijan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 az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Narciso Rodriguez for DesigNation Wool-Blend Coat"/>
          <p:cNvPicPr/>
          <p:nvPr/>
        </p:nvPicPr>
        <p:blipFill>
          <a:blip r:embed="rId3"/>
          <a:stretch/>
        </p:blipFill>
        <p:spPr>
          <a:xfrm>
            <a:off x="6781680" y="39625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81080" y="46483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z lleva los la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ata de ba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71600" y="533520"/>
            <a:ext cx="61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UGG - Garrapata II Bombskin Leather Jacket"/>
          <p:cNvPicPr/>
          <p:nvPr/>
        </p:nvPicPr>
        <p:blipFill>
          <a:blip r:embed="rId2"/>
          <a:stretch/>
        </p:blipFill>
        <p:spPr>
          <a:xfrm>
            <a:off x="380880" y="2209680"/>
            <a:ext cx="1684440" cy="1962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7400" y="29718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a lleva los el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abri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17480" cy="1628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3000" y="48006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4640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la lleva el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vesti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zapatill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rosad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9144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urlz MT"/>
              </a:rPr>
              <a:t>El Ver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10:26Z</dcterms:created>
  <dc:creator>kourniotispan</dc:creator>
  <dc:description/>
  <dc:language>en-US</dc:language>
  <cp:lastModifiedBy>kourniotispan</cp:lastModifiedBy>
  <dcterms:modified xsi:type="dcterms:W3CDTF">2013-01-04T18:24:02Z</dcterms:modified>
  <cp:revision>7</cp:revision>
  <dc:subject/>
  <dc:title>Slide 1</dc:title>
</cp:coreProperties>
</file>